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1ED-F366-4CBE-84CD-AEA31131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878-8BE7-4F6A-82EA-CC0ACEA3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181-A0DE-4EA5-92FC-80E33809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83A-D480-4A3A-A86B-4842C8E0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637-14AA-4FB9-9574-5C56B6DC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712-2CF4-4B6D-A8CD-BC04D478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ADA-4F95-4AB4-8405-7B1F22B1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3F9-3B13-4F42-950C-DB6C78D6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E4A-6B93-43E7-958B-6D6203D8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E851-FFB9-48D2-9CBA-43C0CBC1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139-BD39-4C5A-94D9-61A6CC1B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72DF-68FB-4A57-8725-6D938BEC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2E9B-9BCE-4874-8E9C-4C315F3EB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SP3M Uni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hould I stud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anthrosocphyc"/>
          <p:cNvPicPr/>
          <p:nvPr/>
        </p:nvPicPr>
        <p:blipFill>
          <a:blip r:embed="rId1"/>
          <a:stretch/>
        </p:blipFill>
        <p:spPr>
          <a:xfrm>
            <a:off x="3809880" y="2057400"/>
            <a:ext cx="14511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ocial Scien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opology – the study or the origin, the behaviour, the physical, social, and cultural development of hu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anthropology"/>
          <p:cNvPicPr/>
          <p:nvPr/>
        </p:nvPicPr>
        <p:blipFill>
          <a:blip r:embed="rId1"/>
          <a:stretch/>
        </p:blipFill>
        <p:spPr>
          <a:xfrm>
            <a:off x="4648320" y="2998800"/>
            <a:ext cx="38098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ocial Scien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ology – the study of human social behaviour and the institutions and organizations that form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sociology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ocial Scien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logy – the study of mental processes and human behavi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Psychology4a"/>
          <p:cNvPicPr/>
          <p:nvPr/>
        </p:nvPicPr>
        <p:blipFill>
          <a:blip r:embed="rId1"/>
          <a:stretch/>
        </p:blipFill>
        <p:spPr>
          <a:xfrm>
            <a:off x="4943520" y="1981080"/>
            <a:ext cx="321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titative vs. Qualita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tatistical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, WHERE, W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es on r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er and more focused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and 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02:13:56Z</dcterms:created>
  <dc:creator>Mark Harris</dc:creator>
  <dc:description/>
  <dc:language>en-US</dc:language>
  <cp:lastModifiedBy>OCDSB User</cp:lastModifiedBy>
  <dcterms:modified xsi:type="dcterms:W3CDTF">2012-08-30T18:28:19Z</dcterms:modified>
  <cp:revision>26</cp:revision>
  <dc:subject/>
  <dc:title>HSP3M Unit 1</dc:title>
</cp:coreProperties>
</file>